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3B3-B8DC-4A36-8347-0F3D0E13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F06-D2B9-4D10-A209-F905DBE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61A-C30D-4CB7-BF61-E9736FE9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01C-5F1E-438E-B6A2-350132C8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7E5E9-7CA9-438B-BE64-BB88B970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E7F70-863A-4B31-895E-39A8C6C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BBF7F-10F8-4D24-8837-B5DF5F6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49645-F29A-42B0-B62A-9498AFB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A0F6B-0DE6-427D-8133-BE9AFC14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159D-B16F-4850-BB2E-A1C1A1D0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C785-523D-4237-A931-05B57EE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446-C028-4A79-AA11-E12E47F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7F6B-2E9A-4A24-9F77-1D547DE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5F4D7-5233-4C2B-87CB-9C6B34B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E44BC-2FC0-435E-BE78-4793CEE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787E5-ACF9-4681-AA15-00ADE59A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6964-B071-40EE-93E8-6DE6E1CF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595-9E98-4497-B0B8-66422BF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97D-0862-4AE4-90EF-DB15DF5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114-37AE-4705-B2FB-D7F80EA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1D4-2B32-4650-B727-B8135EB5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F4D-C2FB-478B-8BD1-8B731BA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CE3-1BB5-4F17-88B6-B145E5B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AC1-087C-4C66-B776-EF96D59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FB8-922A-4E76-A8C5-290D2B3F1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6780-5E8F-4E80-8D65-1491B69794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солн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164304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олнце и солнечное затмение   2008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1760" y="5000400"/>
            <a:ext cx="8143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олнила: Козлова Д.С. Гр.БА-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к. работы: Никитина Е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E:\1236811570_vernadskijj1.jpg"/>
          <p:cNvPicPr/>
          <p:nvPr/>
        </p:nvPicPr>
        <p:blipFill>
          <a:blip r:embed="rId1"/>
          <a:stretch/>
        </p:blipFill>
        <p:spPr>
          <a:xfrm>
            <a:off x="1571760" y="0"/>
            <a:ext cx="6215040" cy="7143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1400" y="557172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адимир Иванович Вернадск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(1863 – 194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Alexander_Chizhevsky"/>
          <p:cNvPicPr/>
          <p:nvPr/>
        </p:nvPicPr>
        <p:blipFill>
          <a:blip r:embed="rId1"/>
          <a:stretch/>
        </p:blipFill>
        <p:spPr>
          <a:xfrm>
            <a:off x="1643040" y="-214200"/>
            <a:ext cx="6143760" cy="764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5960" y="5428800"/>
            <a:ext cx="60436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Леонидович Чижевск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(1897 – 196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C:\Documents and Settings\Администратор\Мои документы\КСЕ\Солнце фото\woi.jpg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" descr="C:\Documents and Settings\Администратор\Мои документы\КСЕ\Солнце фото\движение земли и луны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215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humbs_1873231863-dsc_406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71840" y="356760"/>
            <a:ext cx="4114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тмение 200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kiil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56275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лнечное затмение в г. Новосибирс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lip_image00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лная фаза солнечного затм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wetyh"/>
          <p:cNvPicPr/>
          <p:nvPr/>
        </p:nvPicPr>
        <p:blipFill>
          <a:blip r:embed="rId1"/>
          <a:stretch/>
        </p:blipFill>
        <p:spPr>
          <a:xfrm>
            <a:off x="1214280" y="1143000"/>
            <a:ext cx="6572520" cy="550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3"/>
                </a:solidFill>
                <a:latin typeface="Tahoma"/>
              </a:rPr>
              <a:t>Наблюдатели затм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Содержимое 2"/>
          <p:cNvGraphicFramePr/>
          <p:nvPr/>
        </p:nvGraphicFramePr>
        <p:xfrm>
          <a:off x="0" y="0"/>
          <a:ext cx="5105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Содержимо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95680" y="1676520"/>
          <a:ext cx="5029200" cy="44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676520"/>
                    <a:ext cx="50292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Documents and Settings\Администратор\Мои документы\КСЕ\Солнце фото\ипв.jpg"/>
          <p:cNvPicPr/>
          <p:nvPr/>
        </p:nvPicPr>
        <p:blipFill>
          <a:blip r:embed="rId1"/>
          <a:stretch/>
        </p:blipFill>
        <p:spPr>
          <a:xfrm>
            <a:off x="-214200" y="0"/>
            <a:ext cx="107154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635796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лнце  и луна с Зем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:\030.jpg"/>
          <p:cNvPicPr/>
          <p:nvPr/>
        </p:nvPicPr>
        <p:blipFill>
          <a:blip r:embed="rId1"/>
          <a:stretch/>
        </p:blipFill>
        <p:spPr>
          <a:xfrm>
            <a:off x="0" y="0"/>
            <a:ext cx="10358280" cy="7286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53575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ентральное тело Солнечной сист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ol17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-181080" y="0"/>
            <a:ext cx="9506160" cy="6991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5688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ЛН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57337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раскалённый плазменный ш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oto0267"/>
          <p:cNvPicPr/>
          <p:nvPr/>
        </p:nvPicPr>
        <p:blipFill>
          <a:blip r:embed="rId1"/>
          <a:stretch/>
        </p:blipFill>
        <p:spPr>
          <a:xfrm>
            <a:off x="0" y="0"/>
            <a:ext cx="9144000" cy="8429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5840" y="856800"/>
            <a:ext cx="368280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оение Солн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пятна и факелы"/>
          <p:cNvPicPr/>
          <p:nvPr/>
        </p:nvPicPr>
        <p:blipFill>
          <a:blip r:embed="rId1"/>
          <a:stretch/>
        </p:blipFill>
        <p:spPr>
          <a:xfrm>
            <a:off x="-361800" y="-500040"/>
            <a:ext cx="9505800" cy="8643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3995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ятна и факе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ol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29120" y="642600"/>
            <a:ext cx="38275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туберанц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корон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14200" y="-357120"/>
            <a:ext cx="9505800" cy="8286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499680"/>
            <a:ext cx="41148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рона Сол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1350_siyani.jpg"/>
          <p:cNvPicPr/>
          <p:nvPr/>
        </p:nvPicPr>
        <p:blipFill>
          <a:blip r:embed="rId1"/>
          <a:stretch/>
        </p:blipFill>
        <p:spPr>
          <a:xfrm>
            <a:off x="-428760" y="-214200"/>
            <a:ext cx="9572760" cy="7500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5143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гнитные бур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 Зем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E:\c1.jpg"/>
          <p:cNvPicPr/>
          <p:nvPr/>
        </p:nvPicPr>
        <p:blipFill>
          <a:blip r:embed="rId1"/>
          <a:stretch/>
        </p:blipFill>
        <p:spPr>
          <a:xfrm>
            <a:off x="1643040" y="0"/>
            <a:ext cx="6215040" cy="7143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4720" y="4928760"/>
            <a:ext cx="55720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антин Эдуардович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Циолковски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(1857 – 193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8:34Z</dcterms:created>
  <dc:creator>Козлов С. Г.</dc:creator>
  <dc:description/>
  <dc:language>en-US</dc:language>
  <cp:lastModifiedBy>user</cp:lastModifiedBy>
  <dcterms:modified xsi:type="dcterms:W3CDTF">2009-05-22T02:20:45Z</dcterms:modified>
  <cp:revision>15</cp:revision>
  <dc:subject/>
  <dc:title>СОЛНЦЕ</dc:title>
</cp:coreProperties>
</file>