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AE19-8CFA-49C1-B141-9B7E3CAC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E6DD-D329-4470-BB1A-86392109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8240-A31B-46A5-92A7-1DEF82C4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C70E-C053-46E1-B1B6-481262DF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B402-28CC-4E47-92A3-92F7AEEA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BBA-9E74-4F45-B87B-540BFF2F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3785-AA62-4B38-B4A8-5FF544C1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79D5-CB08-4D67-841F-34CF9532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1DAA-6282-434B-8416-E046DBD5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1C59-06F3-4E08-8E3F-1BEAA3E0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B9E1-3754-46C6-B4D0-3DF8757B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D9B6-DF25-4EA8-BBC1-A1B09998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B12B-8301-4EF7-ABAB-0D4AE5BEE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.%201." descr=""/>
          <p:cNvPicPr/>
          <p:nvPr/>
        </p:nvPicPr>
        <p:blipFill>
          <a:blip r:embed="rId1"/>
          <a:stretch/>
        </p:blipFill>
        <p:spPr>
          <a:xfrm>
            <a:off x="2133720" y="152280"/>
            <a:ext cx="4952880" cy="655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-1024200" y="2700360"/>
            <a:ext cx="4057560" cy="942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ЯВЛЕНИЕ</a:t>
            </a:r>
            <a:endParaRPr b="0" i="1" lang="en-US" sz="66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6138360" y="2624040"/>
            <a:ext cx="3752640" cy="942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МИРАЖА</a:t>
            </a:r>
            <a:endParaRPr b="0" i="1" lang="en-US" sz="66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.%202.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.%203.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.%204." descr=""/>
          <p:cNvPicPr/>
          <p:nvPr/>
        </p:nvPicPr>
        <p:blipFill>
          <a:blip r:embed="rId1">
            <a:alphaModFix amt="50000"/>
          </a:blip>
          <a:srcRect l="24769" t="14679" r="29230" b="18752"/>
          <a:stretch/>
        </p:blipFill>
        <p:spPr>
          <a:xfrm>
            <a:off x="1447920" y="685800"/>
            <a:ext cx="5715000" cy="3505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80880" y="4648320"/>
            <a:ext cx="822960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Impact"/>
              </a:rPr>
              <a:t>Изменение направления лучей света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.%205." descr=""/>
          <p:cNvPicPr/>
          <p:nvPr/>
        </p:nvPicPr>
        <p:blipFill>
          <a:blip r:embed="rId1"/>
          <a:srcRect l="7391" t="27128" r="9334" b="27799"/>
          <a:stretch/>
        </p:blipFill>
        <p:spPr>
          <a:xfrm>
            <a:off x="380880" y="2209680"/>
            <a:ext cx="8229600" cy="2895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523880" y="457200"/>
            <a:ext cx="614376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ижний мираж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bcb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.%206." descr=""/>
          <p:cNvPicPr/>
          <p:nvPr/>
        </p:nvPicPr>
        <p:blipFill>
          <a:blip r:embed="rId1">
            <a:lum bright="6000"/>
          </a:blip>
          <a:srcRect l="2913" t="15667" r="6798" b="32902"/>
          <a:stretch/>
        </p:blipFill>
        <p:spPr>
          <a:xfrm>
            <a:off x="457200" y="609480"/>
            <a:ext cx="8229600" cy="3276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4191120"/>
            <a:ext cx="8267760" cy="20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ерхний мираж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.%207.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458200" cy="4419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04920" y="5181480"/>
            <a:ext cx="863892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8100000"/>
                </a:gradFill>
                <a:latin typeface="Arial"/>
              </a:rPr>
              <a:t>Мираж в лаборатории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Мираж%20зимний" descr=""/>
          <p:cNvPicPr/>
          <p:nvPr/>
        </p:nvPicPr>
        <p:blipFill>
          <a:blip r:embed="rId1"/>
          <a:srcRect l="3331" t="5360" r="3331" b="5360"/>
          <a:stretch/>
        </p:blipFill>
        <p:spPr>
          <a:xfrm>
            <a:off x="609480" y="304920"/>
            <a:ext cx="7848720" cy="4724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762120" y="5334120"/>
            <a:ext cx="77724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ЯВЛЕНИЕ МИРАЖА</a:t>
            </a:r>
            <a:endParaRPr b="0" lang="en-US" sz="7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30:26Z</dcterms:created>
  <dc:creator>alexsh</dc:creator>
  <dc:description/>
  <dc:language>en-US</dc:language>
  <cp:lastModifiedBy>alexsh</cp:lastModifiedBy>
  <dcterms:modified xsi:type="dcterms:W3CDTF">2005-05-24T14:54:19Z</dcterms:modified>
  <cp:revision>3</cp:revision>
  <dc:subject/>
  <dc:title>Презентация PowerPoint</dc:title>
</cp:coreProperties>
</file>